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15C-3AEE-4AB3-ABE8-4DDBBFEA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B7D-3ACA-4278-9AAB-8867247B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5D6-7ECF-440F-BE5C-4951CDBB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DF1-7890-4884-9360-D3700E12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622-CE8E-41B3-BC88-B0DD1353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4BF-5C22-4B2B-AC45-F774C32F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898-C518-4634-B242-C71A6E1E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B93-58F5-4027-9426-3014C612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CA3-0186-4BFF-9F95-ECD7C907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0F2-AF0B-4D5A-AE8E-D974EAA5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2CF-AB65-47EF-B8F2-E53C89E9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1F2-8716-4BC5-B0E6-B37B12E0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8DA3-385F-444A-BB94-100F22C355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Hot Platter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468360" y="1355760"/>
            <a:ext cx="3147840" cy="2278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3924360" y="1484280"/>
            <a:ext cx="3095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hinese Snack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ring Ro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same Pra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im 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eking Duck Sti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835280" y="4076640"/>
            <a:ext cx="33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Indian Snack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am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nion Baj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getable Pak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mb Cresc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5292720" y="3900600"/>
            <a:ext cx="3230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Cold Platter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9640" y="1847880"/>
            <a:ext cx="2448000" cy="1633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348000" y="1557360"/>
            <a:ext cx="316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Chicken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in and Buffalo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oney-glazed Drumsti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iri-piri Nug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pcorn 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195640" y="4292640"/>
            <a:ext cx="360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Prawn Pl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emon and Black Pepper Pra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hilli Pra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awn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6084720" y="4341960"/>
            <a:ext cx="2590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Sandwiches and Wrap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pperplate Gothic Light"/>
              </a:rPr>
              <a:t>Cakes and Dessert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20:20:00Z</dcterms:created>
  <dc:creator>St.Ambrose High School</dc:creator>
  <dc:description/>
  <dc:language>en-US</dc:language>
  <cp:lastModifiedBy>Alastair Black</cp:lastModifiedBy>
  <dcterms:modified xsi:type="dcterms:W3CDTF">2014-10-17T10:46:34Z</dcterms:modified>
  <cp:revision>8</cp:revision>
  <dc:subject/>
  <dc:title>Morven’s Cake Place</dc:title>
</cp:coreProperties>
</file>