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98DA-BDDA-4986-8B45-3D9510890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6A45-4E8B-4B02-BC62-A58F99380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2163-9CB6-405B-AF71-F827820D7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3859-821E-4A2B-A097-736524BA6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3202-EC4B-468C-B999-65AA4F733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6459-44E5-4E89-9D49-CA5382887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22A0-26E2-48D4-998E-EAD4CB75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3813-61AF-4F46-ABDF-9B9109101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9861-4169-4347-A3C5-CD43F8ABD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F6DA-D567-495B-8501-9AADAE11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03E8-8B95-4FD1-880B-469BFC6E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07F3-C234-4635-885C-C034552A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7E6BC-36BA-4075-8216-8798DA07F77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pperplate Gothic Light"/>
              </a:rPr>
              <a:t>Hot Platters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468360" y="1355760"/>
            <a:ext cx="3147840" cy="22780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8"/>
          <p:cNvSpPr/>
          <p:nvPr/>
        </p:nvSpPr>
        <p:spPr>
          <a:xfrm>
            <a:off x="3924360" y="1484280"/>
            <a:ext cx="3095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</a:rPr>
              <a:t>Chinese Snack Pla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pring Ro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esame Praw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Dim S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eking Duck Sti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1835280" y="4076640"/>
            <a:ext cx="33130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</a:rPr>
              <a:t>Indian Snack Pla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amo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nion Baj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Vegetable Pak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Lamb Cresc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" descr=""/>
          <p:cNvPicPr/>
          <p:nvPr/>
        </p:nvPicPr>
        <p:blipFill>
          <a:blip r:embed="rId2"/>
          <a:stretch/>
        </p:blipFill>
        <p:spPr>
          <a:xfrm>
            <a:off x="5292720" y="3900600"/>
            <a:ext cx="32306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pperplate Gothic Light"/>
              </a:rPr>
              <a:t>Cold Platters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539640" y="1847880"/>
            <a:ext cx="2448000" cy="16336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8"/>
          <p:cNvSpPr/>
          <p:nvPr/>
        </p:nvSpPr>
        <p:spPr>
          <a:xfrm>
            <a:off x="3348000" y="1557360"/>
            <a:ext cx="3168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</a:rPr>
              <a:t>Chicken Pla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lain and Buffalo W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Honey-glazed Drumsti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iri-piri Nugg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opcorn Chic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2195640" y="4292640"/>
            <a:ext cx="360036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</a:rPr>
              <a:t>Prawn Pla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Lemon and Black Pepper Praw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hilli Praw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rawn B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1" descr=""/>
          <p:cNvPicPr/>
          <p:nvPr/>
        </p:nvPicPr>
        <p:blipFill>
          <a:blip r:embed="rId2"/>
          <a:stretch/>
        </p:blipFill>
        <p:spPr>
          <a:xfrm>
            <a:off x="6084720" y="4341960"/>
            <a:ext cx="259092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pperplate Gothic Light"/>
              </a:rPr>
              <a:t>Sandwiches and Wraps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pperplate Gothic Light"/>
              </a:rPr>
              <a:t>Cakes and Desserts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5T20:20:00Z</dcterms:created>
  <dc:creator>St.Ambrose High School</dc:creator>
  <dc:description/>
  <dc:language>en-US</dc:language>
  <cp:lastModifiedBy>Alastair Black</cp:lastModifiedBy>
  <dcterms:modified xsi:type="dcterms:W3CDTF">2014-10-17T10:46:34Z</dcterms:modified>
  <cp:revision>8</cp:revision>
  <dc:subject/>
  <dc:title>Morven’s Cake Place</dc:title>
</cp:coreProperties>
</file>