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3FD8-9CD9-430A-AE53-1E5837CBE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1290-19E3-4863-AD53-3B396414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CC05-1C43-4D79-B365-9BB50DFA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8497-2ADF-44F5-AE62-AE7F8C5C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05B3-922E-45AE-AF9A-2B7484D4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8E4C-870D-40B1-B22C-893EEA04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D2D7-7E6D-4F85-9AEE-B7ADB19D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BBFE-9D98-41B7-A683-AA9BDF23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0733-B9B7-45EB-A2BF-46290B2A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767C-0D48-4284-AC82-85743D71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CB13-25AE-4D9F-A0A5-EC01359A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C608-4544-4D91-BE34-95419E4A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69D3-335F-414F-A14F-38A32507E4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pperplate Gothic Light"/>
              </a:rPr>
              <a:t>Hot Platters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468360" y="1355760"/>
            <a:ext cx="3147840" cy="22780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3924360" y="1484280"/>
            <a:ext cx="3095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</a:rPr>
              <a:t>Chinese Snack Pla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pring Ro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esame Praw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im 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eking Duck Sti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1835280" y="4076640"/>
            <a:ext cx="3313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</a:rPr>
              <a:t>Indian Snack Pla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am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nion Baj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Vegetable Pak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amb Cresc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"/>
          <p:cNvPicPr/>
          <p:nvPr/>
        </p:nvPicPr>
        <p:blipFill>
          <a:blip r:embed="rId2"/>
          <a:stretch/>
        </p:blipFill>
        <p:spPr>
          <a:xfrm>
            <a:off x="5292720" y="3900600"/>
            <a:ext cx="32306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pperplate Gothic Light"/>
              </a:rPr>
              <a:t>Cold Platters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539640" y="1847880"/>
            <a:ext cx="2448000" cy="16336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3348000" y="1557360"/>
            <a:ext cx="3168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</a:rPr>
              <a:t>Chicken Pla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lain and Buffalo W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oney-glazed Drumsti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iri-piri Nug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opcorn Chic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2195640" y="4292640"/>
            <a:ext cx="3600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</a:rPr>
              <a:t>Prawn Pla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emon and Black Pepper Praw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hilli Praw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awn B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2"/>
          <a:stretch/>
        </p:blipFill>
        <p:spPr>
          <a:xfrm>
            <a:off x="6084720" y="4341960"/>
            <a:ext cx="25909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pperplate Gothic Light"/>
              </a:rPr>
              <a:t>Sandwiches and Wraps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pperplate Gothic Light"/>
              </a:rPr>
              <a:t>Cakes and Desserts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20:20:00Z</dcterms:created>
  <dc:creator>St.Ambrose High School</dc:creator>
  <dc:description/>
  <dc:language>en-US</dc:language>
  <cp:lastModifiedBy>Alastair Black</cp:lastModifiedBy>
  <dcterms:modified xsi:type="dcterms:W3CDTF">2014-10-17T10:46:34Z</dcterms:modified>
  <cp:revision>8</cp:revision>
  <dc:subject/>
  <dc:title>Morven’s Cake Place</dc:title>
</cp:coreProperties>
</file>